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AB6E-D0A7-4E3C-B38B-F6C56A535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C18C-C3C8-4A57-B302-D435A4FD7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91B6-0D75-4F82-BAB9-A14175FC3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0336-0C95-4117-AB31-5AEDE9EAE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1D01-952F-4712-BEAD-12ABFA1F7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2125-ADDF-4BFD-ADCD-E648AC496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9FD4-E842-4C1E-96E6-466072D49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FDD0-12F3-4DB3-BB7B-8CE69264D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9DD3-48CB-4B41-85D2-6390FB3CF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9A8C-56DC-4392-AEFB-C493FF034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88E6-8772-49F0-A5D7-5BD514E33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2504-F617-4049-8026-6B499E097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BE25EA-FB1A-4F6F-99FA-761172FBDA6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da SPM-Jour Fi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2160" y="1371600"/>
            <a:ext cx="77122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change reques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m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Projek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opa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lyss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-C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nelo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/ Organisatorisches / Action Ite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6000" y="1346040"/>
          <a:ext cx="8458200" cy="675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isks and Actio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14300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Siemens-Mitarbeiter</cp:lastModifiedBy>
  <cp:lastPrinted>2003-07-02T13:24:00Z</cp:lastPrinted>
  <dcterms:modified xsi:type="dcterms:W3CDTF">2003-09-26T06:43:10Z</dcterms:modified>
  <cp:revision>81</cp:revision>
  <dc:subject/>
  <dc:title>No Slide Title</dc:title>
</cp:coreProperties>
</file>